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7E8-F60E-4FBD-9953-C2D46A5E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A36-9C26-4089-836F-486607C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2EF-E6E8-428F-8AB2-2B45B7EE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D35-A994-4639-AD52-9B0053B8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780-4D1F-48DA-B2CD-939F9BE9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B66-418B-4877-B83E-ED02A127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3BBA4-08D6-4D5F-BCCF-4A2DB1A5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E1BCD-39C1-4D6D-9BF3-F1781B36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17E1F-C491-4CC3-93CA-F4A0DFF8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16E-C028-488C-AFB0-57525A0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90F52-6957-4064-B6F5-1C0716CD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E1524-AFF3-4D4C-9873-938B755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33B16D-FF2F-4985-B2B7-F9B1DE8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A006E-6924-4C0E-85F5-3D7E226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4FF8D-1519-49CF-8196-B171D76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A2DEE-7C41-4E0F-B4E3-FC760AB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55BCC-0601-450E-B539-2940D420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A3562-2563-4B92-A383-F9BF270B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AE35F-8424-4066-9039-B9B549D9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B7E-AFD5-4EF3-8488-E598E143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3BF-FE45-4D01-8BA0-C953408C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6AB-11D3-4F5E-86CF-AFFC05A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943-E457-4369-A48D-965B01F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1C8-8670-4B93-AB00-BF28AF1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DA2-EB85-427C-A967-8578975ADFF1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A99-D624-4E83-BCA3-78BB5049D13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1C1-CBB1-4E2F-9321-35355FBCAE1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B37-CF88-44B1-88CF-37EF1D6C4CB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24C6-E82E-4C8A-A79E-7AFC8BE86E9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71F-9528-4401-9B34-4C7742A1CDA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D8DF-BBE7-4AC0-B1BD-2A036B53EDA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F95-5E59-4E2D-9A1E-0650512A93F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CE6-B8D0-40D6-A2F4-EE68873B000F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BC9-DB6E-41E8-BC5B-381AD2EB82C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10B1-3D2D-436B-959B-CCBA8F5D31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A0AF-569B-4285-AA89-E9E011B8580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F75-AA3C-4EB8-95F0-C7F229A7752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F31D-A935-478C-89B5-4DC755031ED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B03-ADD3-4255-9499-35DE5B5B07D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1E87-5A4E-46F8-B05B-3FB798FD615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 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Web Applications – Aj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: recuperaD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27080" y="836280"/>
            <a:ext cx="7866000" cy="54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recupera i dati dal form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cuperaDati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orm = document.forms['form'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 nome = form.nome.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lore = 'nome=' + escape(no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turn valo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viene richiamata dall'oggetto xmlHttpReq per l'aggiornamento asincrono dell'elemento risult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tringa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document.getElementById("risultato").innerHTML = strin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sultat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Immagine 2" descr=""/>
          <p:cNvPicPr/>
          <p:nvPr/>
        </p:nvPicPr>
        <p:blipFill>
          <a:blip r:embed="rId1"/>
          <a:stretch/>
        </p:blipFill>
        <p:spPr>
          <a:xfrm>
            <a:off x="1428840" y="1268280"/>
            <a:ext cx="69451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41528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ronimo d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ynchronous JavaScript and 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è un framework di sviluppo per realizzare Web applications interat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viluppo di applicazioni con AJAX si basa su uno scambio di dati in background fra client (browser ) e server, che consente l'aggiornamento dinamico di una pagina web senza esplicito ricaricamento da parte dell'u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è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incro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senso che i dati extra sono richiesti al server e caricati in background senza interferire con il comportamento della pagina esist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malmente le funzioni richiamate sono scritte con il linguaggio JavaScript (non è però obbligato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di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44360" y="1196640"/>
            <a:ext cx="7630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tradizionale Client-Ser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Connettore 2 2"/>
          <p:cNvCxnSpPr/>
          <p:nvPr/>
        </p:nvCxnSpPr>
        <p:spPr>
          <a:xfrm flipV="1">
            <a:off x="2509560" y="2071440"/>
            <a:ext cx="2391480" cy="1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4" name="Connettore 2 8"/>
          <p:cNvCxnSpPr>
            <a:endCxn id="625" idx="6"/>
          </p:cNvCxnSpPr>
          <p:nvPr/>
        </p:nvCxnSpPr>
        <p:spPr>
          <a:xfrm flipH="1">
            <a:off x="2699640" y="2205000"/>
            <a:ext cx="2159640" cy="28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6" name="Connettore 2 10"/>
          <p:cNvCxnSpPr/>
          <p:nvPr/>
        </p:nvCxnSpPr>
        <p:spPr>
          <a:xfrm flipV="1">
            <a:off x="2700360" y="2678040"/>
            <a:ext cx="2239200" cy="30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7" name="Connettore 2 12"/>
          <p:cNvCxnSpPr>
            <a:stCxn id="628" idx="3"/>
          </p:cNvCxnSpPr>
          <p:nvPr/>
        </p:nvCxnSpPr>
        <p:spPr>
          <a:xfrm flipH="1">
            <a:off x="2509200" y="2755440"/>
            <a:ext cx="2540520" cy="313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29" name="CasellaDiTesto 13"/>
          <p:cNvSpPr/>
          <p:nvPr/>
        </p:nvSpPr>
        <p:spPr>
          <a:xfrm>
            <a:off x="3348000" y="17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sellaDiTesto 18"/>
          <p:cNvSpPr/>
          <p:nvPr/>
        </p:nvSpPr>
        <p:spPr>
          <a:xfrm>
            <a:off x="334800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Connettore 2 19"/>
          <p:cNvCxnSpPr/>
          <p:nvPr/>
        </p:nvCxnSpPr>
        <p:spPr>
          <a:xfrm flipV="1">
            <a:off x="2626920" y="4436280"/>
            <a:ext cx="2274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32" name="Connettore 2 15"/>
          <p:cNvCxnSpPr/>
          <p:nvPr/>
        </p:nvCxnSpPr>
        <p:spPr>
          <a:xfrm flipH="1">
            <a:off x="2699640" y="4868640"/>
            <a:ext cx="21596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33" name="CasellaDiTesto 23"/>
          <p:cNvSpPr/>
          <p:nvPr/>
        </p:nvSpPr>
        <p:spPr>
          <a:xfrm>
            <a:off x="3419640" y="4067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sellaDiTesto 24"/>
          <p:cNvSpPr/>
          <p:nvPr/>
        </p:nvSpPr>
        <p:spPr>
          <a:xfrm>
            <a:off x="341964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e 16"/>
          <p:cNvSpPr/>
          <p:nvPr/>
        </p:nvSpPr>
        <p:spPr>
          <a:xfrm>
            <a:off x="1403280" y="1773360"/>
            <a:ext cx="129708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e 30"/>
          <p:cNvSpPr/>
          <p:nvPr/>
        </p:nvSpPr>
        <p:spPr>
          <a:xfrm>
            <a:off x="4859280" y="1773360"/>
            <a:ext cx="1297080" cy="1150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asellaDiTesto 35"/>
          <p:cNvSpPr/>
          <p:nvPr/>
        </p:nvSpPr>
        <p:spPr>
          <a:xfrm>
            <a:off x="1547640" y="2197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CasellaDiTesto 36"/>
          <p:cNvSpPr/>
          <p:nvPr/>
        </p:nvSpPr>
        <p:spPr>
          <a:xfrm>
            <a:off x="5003640" y="21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e 37"/>
          <p:cNvSpPr/>
          <p:nvPr/>
        </p:nvSpPr>
        <p:spPr>
          <a:xfrm>
            <a:off x="1403280" y="4076640"/>
            <a:ext cx="129708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e 38"/>
          <p:cNvSpPr/>
          <p:nvPr/>
        </p:nvSpPr>
        <p:spPr>
          <a:xfrm>
            <a:off x="4859280" y="4076640"/>
            <a:ext cx="1297080" cy="115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asellaDiTesto 41"/>
          <p:cNvSpPr/>
          <p:nvPr/>
        </p:nvSpPr>
        <p:spPr>
          <a:xfrm>
            <a:off x="1547640" y="4572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asellaDiTesto 42"/>
          <p:cNvSpPr/>
          <p:nvPr/>
        </p:nvSpPr>
        <p:spPr>
          <a:xfrm>
            <a:off x="493236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ratteristi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7920" y="148428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JA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e richieste vengono gestite in modo trasparente all’utente e senza un aggiornamento fisico dell’intera pagina, ma solo una porzione della stessa, senza dare all’utente l’impressione di essere in attesa di una risposta dal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gestire questo tipo di richieste è l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MLHttpReques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permette l’invio e la recezione di informazioni vi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Get o Pos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può essere abbinato all’uso di tecnologie server side (ese. scrip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P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permettere alle richieste di sfruttare risorse server (es. eseguire query su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ataba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.1: Form di benvenu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!-- Ad ogni submit del form viene richiamata la funzione xmlhttpPost che riceve il nome di un file PHP (script.ph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form name="form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nSubmit="javascript:xmlhttpPost(‘script.php'); return false;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p&gt;Digita il tuo n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name="nome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tex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value="Invia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submi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div id="risultato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le script.ph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16000" y="123336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/*Script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$nome = $_POST['nome'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echo "&lt;p&gt;Benvenuto &lt;strong&gt;$nome&lt;/strong!&lt;/p&gt;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Javascript: xmlhttpP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3600" y="1142640"/>
            <a:ext cx="777240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script language="Javascrip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Funzione per la gestione asincron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Post(str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Inizializzo l'oggetto xmlHttp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 = th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ozilla/Safari, utilizzeremo l'oggetto XMLHttpRequest per lo scambio di dati tra browser 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XMLHttp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ues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icrosoft (IE), utilizzeremo Microsoft.XML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l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ActiveXObjec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ctiveXObject("Microsoft.XMLHTT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Apro il canale di connessione per regolare il tipo di richi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Passo come parametri il tipo di richiesta, url e s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o meno un operazione asincrona (isAsy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pen('POST', strURL, 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tto l'header dell'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tRequestHeader('Content-Type', 'application/x-www-form-urlencoded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Passo alla richiesta i valori del form in modo da generare l'output desider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nd(recuperaValor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20680" y="980640"/>
            <a:ext cx="7772400" cy="52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Valuto lo stato della richiesta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nreadystatechange = fun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Gli stati di una richiesta possono esse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0 - UN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1 -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2 -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3 -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4 - COMPLETE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 lo sta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self.xmlHttpReq.readyState == 4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Aggiorno la pagina con la risposta ritornata dalla precendete richiesta dal web server.Quando 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terminata il responso del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disponibie come responseText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elf.xmlHttpReq.response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21:19Z</dcterms:modified>
  <cp:revision>141</cp:revision>
  <dc:subject/>
  <dc:title>Corso di Ingegneria del Web A A. 2014 2015  Domenico Rosaci  Linguaggi di Scripting</dc:title>
</cp:coreProperties>
</file>